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041-3CD1-4C08-87F0-ED4EB252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permanent duality (Trade- Off) among those institutional cho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ability vs. Checks and balances (Control Mechanis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ization vs. Decen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liamentary System with Majority rule and Two-part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concentration of Power in the Executive by Majority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biscitary style of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lection of the party leader necessarily means the election of the government leader (dictatorship of the cabinet over the parlia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UK, Germany (two parties and a ha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liamentary System with PR and Multi-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incentive to coalition of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the coalition that chooses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negotiation with the parli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8 of 15 stable democracies (Denmark, Sweden, Norway, Holland, Italy, Belgian, Luxemburg, Icelan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idential Syste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ith Majority rule and Two-part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alist (Executive vs. Legislative; National vs. Local Constituenc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d Government or Autocratic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ss checks and balances mechanis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E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idential System with Proportional Representation and Multi-part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cratic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agmentation of the Decision-makin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Braz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FD8-3125-4B60-8911-73AA73CE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5BF-17BA-45E3-AC92-F139B0AC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7F9-B557-4083-8C9E-EA35DC53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51F-8804-47B1-A015-1D5FD258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4B8-6E5B-4023-9DEE-94813B0C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9B2-26F6-477E-84E8-002627A3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812-123D-4E9A-A5F1-CC43CA9F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0AB-1033-4C1B-BA2B-E4CD4E86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DD9-DF01-43CB-917D-3C58F33A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DE8-E0B6-461C-8300-6B33DF72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CAB-F704-41D7-8B10-AAE1AAB7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3A6-4E31-4E49-8E83-D5F002E2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7788-0CFA-4128-AB33-33328219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pereira@usp.br" TargetMode="External"/><Relationship Id="rId2" Type="http://schemas.openxmlformats.org/officeDocument/2006/relationships/hyperlink" Target="mailto:pereirace@uol.com.br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image" Target="../media/image1.png"/><Relationship Id="rId63" Type="http://schemas.openxmlformats.org/officeDocument/2006/relationships/image" Target="../media/image1.png"/><Relationship Id="rId64" Type="http://schemas.openxmlformats.org/officeDocument/2006/relationships/image" Target="../media/image1.png"/><Relationship Id="rId65" Type="http://schemas.openxmlformats.org/officeDocument/2006/relationships/image" Target="../media/image1.png"/><Relationship Id="rId66" Type="http://schemas.openxmlformats.org/officeDocument/2006/relationships/image" Target="../media/image1.png"/><Relationship Id="rId67" Type="http://schemas.openxmlformats.org/officeDocument/2006/relationships/image" Target="../media/image1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image" Target="../media/image1.png"/><Relationship Id="rId82" Type="http://schemas.openxmlformats.org/officeDocument/2006/relationships/image" Target="../media/image1.png"/><Relationship Id="rId83" Type="http://schemas.openxmlformats.org/officeDocument/2006/relationships/image" Target="../media/image1.png"/><Relationship Id="rId84" Type="http://schemas.openxmlformats.org/officeDocument/2006/relationships/image" Target="../media/image1.png"/><Relationship Id="rId85" Type="http://schemas.openxmlformats.org/officeDocument/2006/relationships/image" Target="../media/image1.png"/><Relationship Id="rId86" Type="http://schemas.openxmlformats.org/officeDocument/2006/relationships/image" Target="../media/image1.png"/><Relationship Id="rId87" Type="http://schemas.openxmlformats.org/officeDocument/2006/relationships/image" Target="../media/image1.png"/><Relationship Id="rId88" Type="http://schemas.openxmlformats.org/officeDocument/2006/relationships/image" Target="../media/image1.png"/><Relationship Id="rId8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Arial"/>
              </a:rPr>
              <a:t>Escolha Social, Estratégia e Racionalidade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100"/>
            </a:b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Uma Introdução à Teoria dos Jogos na Polít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Aula 11 (24/11/2004)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imensões Institucionais do Sistema Polític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Professor: </a:t>
            </a:r>
            <a:r>
              <a:rPr b="0" lang="pt-BR" sz="1300" spc="-1" strike="noStrike" u="sng">
                <a:solidFill>
                  <a:srgbClr val="000000"/>
                </a:solidFill>
                <a:uFillTx/>
                <a:latin typeface="Arial"/>
              </a:rPr>
              <a:t>Carlos Pereira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apereira@usp.br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ereirace@uol.com.br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1.2.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s Propor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istas Partidá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Lista Aber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itores decidem a ordem d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co nas qualidades individuais do candid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olíticos têm menos incentivos para votar com o lí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organização partidária tende a ser menos coesiva e menos discipl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Brasil, Chile, Colômbia, Finlândia, Peru e Polôn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1.2.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s Propor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Lista Fech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íderes partidários decidem a ordem na 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leitores votam no partido, mitigando assim a influência da reputação individual dos candi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parlamentares tendem a ser leal ao partido. Disciplina e coesão são al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Israel, África do Sul, Argentina, Bulgária, Costa Rica Espanha, Paraguai, Portugal, Turquia, Uruguai, Madagasc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.1.2.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istemas Propor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ista Liv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Voto Preferen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itores decidem a ordem da lista bem como eles podem votar ou em um único partido ou em vários candidatos até preencher o número de cadeiras. (Suíç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Lista Flex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partidos oferecem uma lista ordenada de candidatos. Os eleitores podem confirmar esta lista ou ordenar de acordo com a sua preferência. (Áustria, Bélgica, Dinamarca, Grécia, Holanda, Noruega, Republica Checa, Sué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1.1.3. Sistemas Mi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bi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adeiras escolhidas por regra majoritária são independentes das que são eleitas por P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Coréia do Sul, Rússia, Taiwan, Ucrânia, Japão, Equ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rr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 tenta corrigir as distorções do sistema majoritá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eleitores votam duas vezes: um ao nível distrital e outro na lista nacional do partido (fechada no caso da Alemanha). (México, Venezuela, Bolívia, Hungria, Itália, Nova Zelândia, Itál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 acordo com Shugart (2001), o sistema eleitoral teria duas dimensões institucionais: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á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gras que regulariam a competição entre os partidos e destes com os eleitores. Em outras palavras, define se o sistema será mais representativo (inclusivo) ou mais majoritário (formador de maiori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á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gras que definiriam as relações partidárias internas no que diz respeito as conexões entre eleitores e políticos bem como entre líderes e membros dos parti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 seja, define se o sistema será centrado nos partidos ou nos candidatos individ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ada uma destas dimensões teriam um ponto médio hipotético (ou ideal) de eficiência eleitor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sta for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svios deste ponto médio, em qualquer uma das dimensões, implicaria em diminuição da eficiência do sistem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É possível identificar dois desvios extremos na dimensão </a:t>
            </a:r>
            <a:r>
              <a:rPr b="0" i="1" lang="pt-B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ntra-partidária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per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ur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ism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em que as eleições conferem poder a um governo no qual um único partido controlaria o Executivo e a maioria legislativa. Isto significa que a pluralidade (ao invés da maioria) dos eleitores decidiria quem gov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-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presentativ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s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enhum dos vários partidos controlaria a maioria legislativa. O governo resultaria assim de acordos pós-eleitorais entre elites políticas. Eleitores teriam dificuldade de identificar as opções competitivas de governo que estariam disponíve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ria também possível identificar desvios extremos na dimensã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inter-partidár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per-personalis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s elos pessoais dos candidatos com eleitores dominariam suas estratégias eleitorais. Não seria a ação ou compromisso do candidato com seu partido na arena eleitoral que aumentaria suas chances de eleição mas a sua capacidade de oferecer benefícios locais as suas bases eleito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-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entra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arlamentares não seriam controlados pelas suas bases eleitor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responderiam aos seus líderes partidário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ções seriam dirigidas para ocupar posições mais altas na lista partidária ao invés de ações locais nas suas bases eleitora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ipóte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stemas eleitorais localizados nos extremos de uma ou ambas dimensões seriam inerentemente predispostos e sofreriam forte pressão para sere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reforma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 Em outras palavras, estes sistemas teriam as pré-condições necessárias para a refor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83920" y="603360"/>
            <a:ext cx="7855920" cy="6076800"/>
            <a:chOff x="583920" y="603360"/>
            <a:chExt cx="7855920" cy="6076800"/>
          </a:xfrm>
        </p:grpSpPr>
        <p:grpSp>
          <p:nvGrpSpPr>
            <p:cNvPr id="83" name=""/>
            <p:cNvGrpSpPr/>
            <p:nvPr/>
          </p:nvGrpSpPr>
          <p:grpSpPr>
            <a:xfrm>
              <a:off x="1207440" y="6228720"/>
              <a:ext cx="7232400" cy="163440"/>
              <a:chOff x="1207440" y="6228720"/>
              <a:chExt cx="7232400" cy="163440"/>
            </a:xfrm>
          </p:grpSpPr>
          <p:sp>
            <p:nvSpPr>
              <p:cNvPr id="84" name=""/>
              <p:cNvSpPr/>
              <p:nvPr/>
            </p:nvSpPr>
            <p:spPr>
              <a:xfrm>
                <a:off x="8105040" y="6229080"/>
                <a:ext cx="33480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15508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1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19240" y="622908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47144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3080" y="622908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8420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46560" y="622908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09768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60400" y="622908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41224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673880" y="622908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725000" y="6228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952800" y="6229080"/>
                <a:ext cx="42156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03920" y="622872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266280" y="6229080"/>
                <a:ext cx="42156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317760" y="622872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80120" y="6229080"/>
                <a:ext cx="42264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33760" y="622872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893600" y="6229080"/>
                <a:ext cx="42264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45800" y="622872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07440" y="6229080"/>
                <a:ext cx="42264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260360" y="622872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1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418400" y="6133680"/>
              <a:ext cx="6846120" cy="54360"/>
              <a:chOff x="1418400" y="6133680"/>
              <a:chExt cx="6846120" cy="54360"/>
            </a:xfrm>
          </p:grpSpPr>
          <p:sp>
            <p:nvSpPr>
              <p:cNvPr id="107" name=""/>
              <p:cNvSpPr/>
              <p:nvPr/>
            </p:nvSpPr>
            <p:spPr>
              <a:xfrm flipV="1">
                <a:off x="141840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5944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175320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19285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210492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2809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4397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150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79108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671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31251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30120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347760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36363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81168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39877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416376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432180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4978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46742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83300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0083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1843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36040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551844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69448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8705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469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620460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638100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65570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671508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89112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70671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72435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0124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57728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775368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792972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8087760" y="613404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8263800" y="613368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18400" y="6134040"/>
                <a:ext cx="6845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891000" y="1338120"/>
              <a:ext cx="439200" cy="4890960"/>
              <a:chOff x="891000" y="1338120"/>
              <a:chExt cx="439200" cy="4890960"/>
            </a:xfrm>
          </p:grpSpPr>
          <p:sp>
            <p:nvSpPr>
              <p:cNvPr id="150" name=""/>
              <p:cNvSpPr/>
              <p:nvPr/>
            </p:nvSpPr>
            <p:spPr>
              <a:xfrm>
                <a:off x="891000" y="6065280"/>
                <a:ext cx="42228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26640" y="606384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1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000" y="5588280"/>
                <a:ext cx="42228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26640" y="558756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91000" y="5125320"/>
                <a:ext cx="42228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26640" y="512424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1000" y="4648320"/>
                <a:ext cx="42228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26640" y="464760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1000" y="4171320"/>
                <a:ext cx="42228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26640" y="4169880"/>
                <a:ext cx="19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-0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96480" y="369540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369396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96480" y="323172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30320" y="3231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96480" y="2754720"/>
                <a:ext cx="33372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30320" y="275400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96480" y="227844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30320" y="22777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96480" y="1815120"/>
                <a:ext cx="33372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0320" y="181404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0.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96480" y="1338120"/>
                <a:ext cx="33372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30320" y="1338120"/>
                <a:ext cx="16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Geneva"/>
                  </a:rPr>
                  <a:t>1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348200" y="1406520"/>
              <a:ext cx="70560" cy="4728240"/>
              <a:chOff x="1348200" y="1406520"/>
              <a:chExt cx="70560" cy="4728240"/>
            </a:xfrm>
          </p:grpSpPr>
          <p:sp>
            <p:nvSpPr>
              <p:cNvPr id="173" name=""/>
              <p:cNvSpPr/>
              <p:nvPr/>
            </p:nvSpPr>
            <p:spPr>
              <a:xfrm flipH="1">
                <a:off x="1348200" y="6134040"/>
                <a:ext cx="6984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1383120" y="601092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383120" y="59022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383120" y="577908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348200" y="565704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383120" y="554796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383120" y="542520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383120" y="530280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1348200" y="519336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1383120" y="507132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1383120" y="49482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1383120" y="483948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348200" y="471744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1383120" y="459432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1383120" y="448524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1383120" y="436248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348200" y="424008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383120" y="413136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1383120" y="40086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1383120" y="38862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1348200" y="3763080"/>
                <a:ext cx="6984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1383120" y="365436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1383120" y="35316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1383120" y="340920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348200" y="3300480"/>
                <a:ext cx="6984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383120" y="317736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1383120" y="305532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1383120" y="294552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348200" y="282348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383120" y="270036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383120" y="259164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383120" y="246960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1348200" y="234648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383120" y="223776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383120" y="211464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383120" y="199260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348200" y="188388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1383120" y="1760760"/>
                <a:ext cx="34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383120" y="163764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383120" y="1528920"/>
                <a:ext cx="34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348200" y="1406880"/>
                <a:ext cx="6984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1418040" y="1406520"/>
                <a:ext cx="720" cy="47271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3178080" y="712080"/>
              <a:ext cx="3255840" cy="20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1200" y="60336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Figura 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481120" y="820800"/>
              <a:ext cx="291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Duas Dimensões das Regras Eleitora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84600" y="1040040"/>
              <a:ext cx="378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Democracias Latino-america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89800" y="6419520"/>
              <a:ext cx="544680" cy="16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-43200" y="3543840"/>
              <a:ext cx="140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imensão Intrapartidá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37680" y="652752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imensão Interpartidár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436760" y="3763440"/>
              <a:ext cx="6791400" cy="720"/>
              <a:chOff x="1436760" y="3763440"/>
              <a:chExt cx="6791400" cy="720"/>
            </a:xfrm>
          </p:grpSpPr>
          <p:sp>
            <p:nvSpPr>
              <p:cNvPr id="223" name=""/>
              <p:cNvSpPr/>
              <p:nvPr/>
            </p:nvSpPr>
            <p:spPr>
              <a:xfrm>
                <a:off x="143676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5320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7000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8680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0324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02004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3684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5364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7044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8688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0368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2048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23728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55408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7052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8732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0412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2092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13736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45416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77096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087760" y="3763440"/>
                <a:ext cx="1404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33000" y="1420200"/>
              <a:ext cx="720" cy="4713480"/>
              <a:chOff x="4833000" y="1420200"/>
              <a:chExt cx="720" cy="4713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4833000" y="6024240"/>
                <a:ext cx="720" cy="1094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833000" y="5779080"/>
                <a:ext cx="720" cy="1094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833000" y="5533920"/>
                <a:ext cx="720" cy="1094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833000" y="528876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833000" y="504360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4833000" y="479844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4833000" y="455328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833000" y="430776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4833000" y="406260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833000" y="381744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4833000" y="357228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833000" y="332712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4833000" y="308196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833000" y="283680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4833000" y="259164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4833000" y="234648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4833000" y="210132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4833000" y="185616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33000" y="1610640"/>
                <a:ext cx="720" cy="108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4833000" y="1420200"/>
                <a:ext cx="720" cy="5400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893120" y="6099480"/>
              <a:ext cx="72000" cy="55080"/>
              <a:chOff x="4893120" y="6099480"/>
              <a:chExt cx="72000" cy="55080"/>
            </a:xfrm>
          </p:grpSpPr>
          <p:sp>
            <p:nvSpPr>
              <p:cNvPr id="267" name=""/>
              <p:cNvSpPr/>
              <p:nvPr/>
            </p:nvSpPr>
            <p:spPr>
              <a:xfrm>
                <a:off x="4893120" y="6099480"/>
                <a:ext cx="7200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20480" y="612000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418040" y="1338120"/>
              <a:ext cx="6846480" cy="54720"/>
              <a:chOff x="1418040" y="1338120"/>
              <a:chExt cx="6846480" cy="54720"/>
            </a:xfrm>
          </p:grpSpPr>
          <p:sp>
            <p:nvSpPr>
              <p:cNvPr id="270" name=""/>
              <p:cNvSpPr/>
              <p:nvPr/>
            </p:nvSpPr>
            <p:spPr>
              <a:xfrm>
                <a:off x="826380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0877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297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75368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57728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4012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435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671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9112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1508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570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38100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0460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469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705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9448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1844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6040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1843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0083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5028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742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978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2180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16376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9877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1168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6363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7760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120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251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9671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9108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6150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4397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28096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0492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2852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75320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94440" y="1365480"/>
                <a:ext cx="720" cy="2664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18400" y="1338120"/>
                <a:ext cx="720" cy="54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418040" y="1392480"/>
                <a:ext cx="68454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263800" y="1392840"/>
              <a:ext cx="70200" cy="4727520"/>
              <a:chOff x="8263800" y="1392840"/>
              <a:chExt cx="70200" cy="4727520"/>
            </a:xfrm>
          </p:grpSpPr>
          <p:sp>
            <p:nvSpPr>
              <p:cNvPr id="313" name=""/>
              <p:cNvSpPr/>
              <p:nvPr/>
            </p:nvSpPr>
            <p:spPr>
              <a:xfrm>
                <a:off x="8263800" y="139284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263800" y="151560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63800" y="162432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63800" y="174744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263800" y="1869480"/>
                <a:ext cx="70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263800" y="19785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263800" y="210132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63800" y="222372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263800" y="2333160"/>
                <a:ext cx="70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263800" y="24555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263800" y="257832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263800" y="268704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263800" y="2809440"/>
                <a:ext cx="70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63800" y="29325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263800" y="304128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263800" y="316404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63800" y="328644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263800" y="33951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263800" y="351828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263800" y="364140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63800" y="3763440"/>
                <a:ext cx="70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63800" y="38721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63800" y="399528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263800" y="411732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263800" y="422640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263800" y="434916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63800" y="447228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263800" y="458100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263800" y="4703040"/>
                <a:ext cx="7020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63800" y="48261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263800" y="493524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63800" y="505800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263800" y="518040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63800" y="528912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263800" y="541188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263800" y="5534280"/>
                <a:ext cx="3456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263800" y="564372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263800" y="576612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263800" y="588888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263800" y="5997960"/>
                <a:ext cx="3456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263800" y="6120000"/>
                <a:ext cx="7020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263800" y="1392840"/>
                <a:ext cx="720" cy="47271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007960" y="59148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2120" y="2238480"/>
              <a:ext cx="14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C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18560" y="1394280"/>
              <a:ext cx="27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Ven 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104800" y="1358640"/>
              <a:ext cx="70920" cy="55080"/>
              <a:chOff x="5104800" y="1358640"/>
              <a:chExt cx="70920" cy="55080"/>
            </a:xfrm>
          </p:grpSpPr>
          <p:sp>
            <p:nvSpPr>
              <p:cNvPr id="359" name=""/>
              <p:cNvSpPr/>
              <p:nvPr/>
            </p:nvSpPr>
            <p:spPr>
              <a:xfrm>
                <a:off x="5104800" y="13586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31080" y="137916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rot="16200000">
              <a:off x="6382080" y="3666600"/>
              <a:ext cx="84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Pluralitá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2230560" y="3673800"/>
              <a:ext cx="108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Hiper-represent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008600" y="3687840"/>
              <a:ext cx="77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Representa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71040" y="1447920"/>
              <a:ext cx="98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Hiper-centraliz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40880" y="2608200"/>
              <a:ext cx="158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entrado no Parti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74200" y="489744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Centrado no candida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76360" y="5914800"/>
              <a:ext cx="107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Hiper-persona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694480" y="1461240"/>
              <a:ext cx="17280" cy="4645080"/>
              <a:chOff x="5694480" y="1461240"/>
              <a:chExt cx="17280" cy="4645080"/>
            </a:xfrm>
          </p:grpSpPr>
          <p:sp>
            <p:nvSpPr>
              <p:cNvPr id="369" name=""/>
              <p:cNvSpPr/>
              <p:nvPr/>
            </p:nvSpPr>
            <p:spPr>
              <a:xfrm>
                <a:off x="5694480" y="5956560"/>
                <a:ext cx="17280" cy="149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694480" y="5738400"/>
                <a:ext cx="17280" cy="109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694480" y="5547960"/>
                <a:ext cx="17280" cy="81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694480" y="5275440"/>
                <a:ext cx="17280" cy="1497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94480" y="5057640"/>
                <a:ext cx="17280" cy="1087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694480" y="4866840"/>
                <a:ext cx="17280" cy="813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94480" y="4593960"/>
                <a:ext cx="17280" cy="1497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94480" y="4376520"/>
                <a:ext cx="17280" cy="108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94480" y="4185720"/>
                <a:ext cx="17280" cy="8136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94480" y="3912840"/>
                <a:ext cx="17280" cy="1497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694480" y="3695400"/>
                <a:ext cx="17280" cy="1087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94480" y="3504600"/>
                <a:ext cx="17280" cy="810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694480" y="3231720"/>
                <a:ext cx="17280" cy="14976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94480" y="3014280"/>
                <a:ext cx="17280" cy="10872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694480" y="2823480"/>
                <a:ext cx="17280" cy="8100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94480" y="2550600"/>
                <a:ext cx="17280" cy="1497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694480" y="2332800"/>
                <a:ext cx="17280" cy="1087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694480" y="2142360"/>
                <a:ext cx="17280" cy="810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694480" y="1869480"/>
                <a:ext cx="17280" cy="14976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4480" y="1651680"/>
                <a:ext cx="17280" cy="1087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94480" y="1461240"/>
                <a:ext cx="17280" cy="817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125160" y="1447920"/>
              <a:ext cx="18000" cy="4645080"/>
              <a:chOff x="3125160" y="1447920"/>
              <a:chExt cx="18000" cy="4645080"/>
            </a:xfrm>
          </p:grpSpPr>
          <p:sp>
            <p:nvSpPr>
              <p:cNvPr id="391" name=""/>
              <p:cNvSpPr/>
              <p:nvPr/>
            </p:nvSpPr>
            <p:spPr>
              <a:xfrm>
                <a:off x="3125160" y="5943240"/>
                <a:ext cx="18000" cy="14976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25160" y="5725080"/>
                <a:ext cx="18000" cy="10872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25160" y="5533920"/>
                <a:ext cx="18000" cy="8172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25160" y="5262120"/>
                <a:ext cx="18000" cy="14976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25160" y="5043600"/>
                <a:ext cx="18000" cy="10872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25160" y="4852800"/>
                <a:ext cx="18000" cy="8172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125160" y="4581000"/>
                <a:ext cx="18000" cy="14940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5160" y="4362480"/>
                <a:ext cx="18000" cy="10944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5160" y="4171680"/>
                <a:ext cx="18000" cy="817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25160" y="3899880"/>
                <a:ext cx="18000" cy="14940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125160" y="3681360"/>
                <a:ext cx="18000" cy="10944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25160" y="3490560"/>
                <a:ext cx="18000" cy="8172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25160" y="3218760"/>
                <a:ext cx="18000" cy="14940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25160" y="3000240"/>
                <a:ext cx="18000" cy="10944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125160" y="2809440"/>
                <a:ext cx="18000" cy="817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125160" y="2537280"/>
                <a:ext cx="18000" cy="14940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25160" y="2319120"/>
                <a:ext cx="18000" cy="10944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25160" y="2129040"/>
                <a:ext cx="18000" cy="8100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25160" y="1856160"/>
                <a:ext cx="18000" cy="14940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125160" y="1637640"/>
                <a:ext cx="18000" cy="10944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25160" y="1447920"/>
                <a:ext cx="18000" cy="8100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436760" y="5779080"/>
              <a:ext cx="6633360" cy="14040"/>
              <a:chOff x="1436760" y="5779080"/>
              <a:chExt cx="6633360" cy="14040"/>
            </a:xfrm>
          </p:grpSpPr>
          <p:sp>
            <p:nvSpPr>
              <p:cNvPr id="413" name=""/>
              <p:cNvSpPr/>
              <p:nvPr/>
            </p:nvSpPr>
            <p:spPr>
              <a:xfrm>
                <a:off x="1436760" y="5779080"/>
                <a:ext cx="193320" cy="1404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70480" y="5779080"/>
                <a:ext cx="140400" cy="1404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51640" y="5779080"/>
                <a:ext cx="105480" cy="1404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316600" y="5779080"/>
                <a:ext cx="193320" cy="1404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0680" y="5779080"/>
                <a:ext cx="140400" cy="1404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31480" y="5779080"/>
                <a:ext cx="105480" cy="1404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96440" y="5779080"/>
                <a:ext cx="193320" cy="1404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30520" y="5779080"/>
                <a:ext cx="140400" cy="14040"/>
              </a:xfrm>
              <a:prstGeom prst="rect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811680" y="5779080"/>
                <a:ext cx="105480" cy="1404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76280" y="5779080"/>
                <a:ext cx="193320" cy="14040"/>
              </a:xfrm>
              <a:prstGeom prst="rect">
                <a:avLst/>
              </a:pr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10360" y="5779080"/>
                <a:ext cx="140400" cy="14040"/>
              </a:xfrm>
              <a:prstGeom prst="rect">
                <a:avLst/>
              </a:pr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91520" y="5779080"/>
                <a:ext cx="105480" cy="14040"/>
              </a:xfrm>
              <a:prstGeom prst="rect">
                <a:avLst/>
              </a:pr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955040" y="5779080"/>
                <a:ext cx="194040" cy="14040"/>
              </a:xfrm>
              <a:prstGeom prst="rect">
                <a:avLst/>
              </a:pr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290200" y="5779080"/>
                <a:ext cx="140400" cy="14040"/>
              </a:xfrm>
              <a:prstGeom prst="rect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571360" y="5779080"/>
                <a:ext cx="105480" cy="1404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34880" y="5779080"/>
                <a:ext cx="193320" cy="1404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170040" y="5779080"/>
                <a:ext cx="140400" cy="14040"/>
              </a:xfrm>
              <a:prstGeom prst="rect">
                <a:avLst/>
              </a:pr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51200" y="5779080"/>
                <a:ext cx="105480" cy="14040"/>
              </a:xfrm>
              <a:prstGeom prst="rect">
                <a:avLst/>
              </a:pr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715080" y="5779080"/>
                <a:ext cx="193320" cy="14040"/>
              </a:xfrm>
              <a:prstGeom prst="rect">
                <a:avLst/>
              </a:pr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49880" y="5779080"/>
                <a:ext cx="140400" cy="14040"/>
              </a:xfrm>
              <a:prstGeom prst="rect">
                <a:avLst/>
              </a:pr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31040" y="5779080"/>
                <a:ext cx="105480" cy="14040"/>
              </a:xfrm>
              <a:prstGeom prst="rect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94920" y="5779080"/>
                <a:ext cx="193320" cy="14040"/>
              </a:xfrm>
              <a:prstGeom prst="rect">
                <a:avLst/>
              </a:pr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29720" y="5779080"/>
                <a:ext cx="140400" cy="14040"/>
              </a:xfrm>
              <a:prstGeom prst="rect">
                <a:avLst/>
              </a:pr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1436760" y="1747440"/>
              <a:ext cx="6633360" cy="12960"/>
              <a:chOff x="1436760" y="1747440"/>
              <a:chExt cx="6633360" cy="12960"/>
            </a:xfrm>
          </p:grpSpPr>
          <p:sp>
            <p:nvSpPr>
              <p:cNvPr id="437" name=""/>
              <p:cNvSpPr/>
              <p:nvPr/>
            </p:nvSpPr>
            <p:spPr>
              <a:xfrm>
                <a:off x="1436760" y="1747440"/>
                <a:ext cx="193320" cy="12960"/>
              </a:xfrm>
              <a:prstGeom prst="rect">
                <a:avLst/>
              </a:pr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70480" y="1747440"/>
                <a:ext cx="140400" cy="12960"/>
              </a:xfrm>
              <a:prstGeom prst="rect">
                <a:avLst/>
              </a:pr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051640" y="1747440"/>
                <a:ext cx="105480" cy="12960"/>
              </a:xfrm>
              <a:prstGeom prst="rect">
                <a:avLst/>
              </a:pr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316600" y="1747440"/>
                <a:ext cx="193320" cy="12960"/>
              </a:xfrm>
              <a:prstGeom prst="rect">
                <a:avLst/>
              </a:pr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50680" y="1747440"/>
                <a:ext cx="140400" cy="12960"/>
              </a:xfrm>
              <a:prstGeom prst="rect">
                <a:avLst/>
              </a:pr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931480" y="1747440"/>
                <a:ext cx="105480" cy="12960"/>
              </a:xfrm>
              <a:prstGeom prst="rect">
                <a:avLst/>
              </a:pr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96440" y="1747440"/>
                <a:ext cx="193320" cy="12960"/>
              </a:xfrm>
              <a:prstGeom prst="rect">
                <a:avLst/>
              </a:pr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30520" y="1747440"/>
                <a:ext cx="140400" cy="12960"/>
              </a:xfrm>
              <a:prstGeom prst="rect">
                <a:avLst/>
              </a:pr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11680" y="1747440"/>
                <a:ext cx="105480" cy="12960"/>
              </a:xfrm>
              <a:prstGeom prst="rect">
                <a:avLst/>
              </a:pr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076280" y="1747440"/>
                <a:ext cx="193320" cy="12960"/>
              </a:xfrm>
              <a:prstGeom prst="rect">
                <a:avLst/>
              </a:pr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410360" y="1747440"/>
                <a:ext cx="140400" cy="12960"/>
              </a:xfrm>
              <a:prstGeom prst="rect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691520" y="1747440"/>
                <a:ext cx="105480" cy="12960"/>
              </a:xfrm>
              <a:prstGeom prst="rect">
                <a:avLst/>
              </a:pr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55040" y="1747440"/>
                <a:ext cx="194040" cy="12960"/>
              </a:xfrm>
              <a:prstGeom prst="rect">
                <a:avLst/>
              </a:pr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290200" y="1747440"/>
                <a:ext cx="140400" cy="12960"/>
              </a:xfrm>
              <a:prstGeom prst="rect">
                <a:avLst/>
              </a:pr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71360" y="1747440"/>
                <a:ext cx="105480" cy="12960"/>
              </a:xfrm>
              <a:prstGeom prst="rect">
                <a:avLst/>
              </a:pr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34880" y="1747440"/>
                <a:ext cx="193320" cy="12960"/>
              </a:xfrm>
              <a:prstGeom prst="rect">
                <a:avLst/>
              </a:pr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0040" y="1747440"/>
                <a:ext cx="140400" cy="12960"/>
              </a:xfrm>
              <a:prstGeom prst="rect">
                <a:avLst/>
              </a:pr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51200" y="1747440"/>
                <a:ext cx="105480" cy="12960"/>
              </a:xfrm>
              <a:prstGeom prst="rect">
                <a:avLst/>
              </a:pr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5080" y="1747440"/>
                <a:ext cx="193320" cy="12960"/>
              </a:xfrm>
              <a:prstGeom prst="rect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49880" y="1747440"/>
                <a:ext cx="140400" cy="12960"/>
              </a:xfrm>
              <a:prstGeom prst="rect">
                <a:avLst/>
              </a:pr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31040" y="1747440"/>
                <a:ext cx="105480" cy="12960"/>
              </a:xfrm>
              <a:prstGeom prst="rect">
                <a:avLst/>
              </a:pr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594920" y="1747440"/>
                <a:ext cx="193320" cy="12960"/>
              </a:xfrm>
              <a:prstGeom prst="rect">
                <a:avLst/>
              </a:pr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29720" y="1747440"/>
                <a:ext cx="140400" cy="12960"/>
              </a:xfrm>
              <a:prstGeom prst="rect">
                <a:avLst/>
              </a:pr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rot="16200000">
              <a:off x="4937040" y="3397320"/>
              <a:ext cx="110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</a:rPr>
                <a:t>Majorita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5016600" y="2311920"/>
              <a:ext cx="72000" cy="55440"/>
              <a:chOff x="5016600" y="2311920"/>
              <a:chExt cx="72000" cy="55440"/>
            </a:xfrm>
          </p:grpSpPr>
          <p:sp>
            <p:nvSpPr>
              <p:cNvPr id="462" name=""/>
              <p:cNvSpPr/>
              <p:nvPr/>
            </p:nvSpPr>
            <p:spPr>
              <a:xfrm>
                <a:off x="5016600" y="2311920"/>
                <a:ext cx="7200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43960" y="233280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2641680" y="5418360"/>
              <a:ext cx="70920" cy="55080"/>
              <a:chOff x="2641680" y="5418360"/>
              <a:chExt cx="70920" cy="55080"/>
            </a:xfrm>
          </p:grpSpPr>
          <p:sp>
            <p:nvSpPr>
              <p:cNvPr id="465" name=""/>
              <p:cNvSpPr/>
              <p:nvPr/>
            </p:nvSpPr>
            <p:spPr>
              <a:xfrm>
                <a:off x="2641680" y="541836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667960" y="5438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2818800" y="5192640"/>
              <a:ext cx="32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Brasi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729160" y="1862640"/>
              <a:ext cx="70920" cy="55080"/>
              <a:chOff x="2729160" y="1862640"/>
              <a:chExt cx="70920" cy="55080"/>
            </a:xfrm>
          </p:grpSpPr>
          <p:sp>
            <p:nvSpPr>
              <p:cNvPr id="469" name=""/>
              <p:cNvSpPr/>
              <p:nvPr/>
            </p:nvSpPr>
            <p:spPr>
              <a:xfrm>
                <a:off x="2729160" y="18626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756160" y="1883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2457720" y="1801800"/>
              <a:ext cx="11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E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2782080" y="1862640"/>
              <a:ext cx="70920" cy="55080"/>
              <a:chOff x="2782080" y="1862640"/>
              <a:chExt cx="70920" cy="55080"/>
            </a:xfrm>
          </p:grpSpPr>
          <p:sp>
            <p:nvSpPr>
              <p:cNvPr id="473" name=""/>
              <p:cNvSpPr/>
              <p:nvPr/>
            </p:nvSpPr>
            <p:spPr>
              <a:xfrm>
                <a:off x="2782080" y="18626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08360" y="1883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910240" y="1775160"/>
              <a:ext cx="17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B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60080" y="178776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3732120" y="1862640"/>
              <a:ext cx="70920" cy="55080"/>
              <a:chOff x="3732120" y="1862640"/>
              <a:chExt cx="70920" cy="55080"/>
            </a:xfrm>
          </p:grpSpPr>
          <p:sp>
            <p:nvSpPr>
              <p:cNvPr id="478" name=""/>
              <p:cNvSpPr/>
              <p:nvPr/>
            </p:nvSpPr>
            <p:spPr>
              <a:xfrm>
                <a:off x="3732120" y="18626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59120" y="1883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3321720" y="178920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ElS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69200" y="5330520"/>
              <a:ext cx="57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Peru 80-8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65920" y="1979640"/>
              <a:ext cx="30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Ven I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890160" y="1849320"/>
              <a:ext cx="72000" cy="54720"/>
              <a:chOff x="3890160" y="1849320"/>
              <a:chExt cx="72000" cy="54720"/>
            </a:xfrm>
          </p:grpSpPr>
          <p:sp>
            <p:nvSpPr>
              <p:cNvPr id="484" name=""/>
              <p:cNvSpPr/>
              <p:nvPr/>
            </p:nvSpPr>
            <p:spPr>
              <a:xfrm>
                <a:off x="3890160" y="1849320"/>
                <a:ext cx="72000" cy="5472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17520" y="186948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4028400" y="1775160"/>
              <a:ext cx="15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D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80400" y="17877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664880" y="1849320"/>
              <a:ext cx="70920" cy="54720"/>
              <a:chOff x="4664880" y="1849320"/>
              <a:chExt cx="70920" cy="54720"/>
            </a:xfrm>
          </p:grpSpPr>
          <p:sp>
            <p:nvSpPr>
              <p:cNvPr id="489" name=""/>
              <p:cNvSpPr/>
              <p:nvPr/>
            </p:nvSpPr>
            <p:spPr>
              <a:xfrm>
                <a:off x="4664880" y="1849320"/>
                <a:ext cx="70920" cy="5472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91160" y="186948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4881960" y="1719000"/>
              <a:ext cx="982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DR I, Nic, Par, H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4646880" y="1834920"/>
              <a:ext cx="72000" cy="55800"/>
              <a:chOff x="4646880" y="1834920"/>
              <a:chExt cx="72000" cy="55800"/>
            </a:xfrm>
          </p:grpSpPr>
          <p:sp>
            <p:nvSpPr>
              <p:cNvPr id="493" name=""/>
              <p:cNvSpPr/>
              <p:nvPr/>
            </p:nvSpPr>
            <p:spPr>
              <a:xfrm>
                <a:off x="4646880" y="1834920"/>
                <a:ext cx="72000" cy="5580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74240" y="185616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718160" y="1862640"/>
              <a:ext cx="70920" cy="55080"/>
              <a:chOff x="4718160" y="1862640"/>
              <a:chExt cx="70920" cy="55080"/>
            </a:xfrm>
          </p:grpSpPr>
          <p:sp>
            <p:nvSpPr>
              <p:cNvPr id="496" name=""/>
              <p:cNvSpPr/>
              <p:nvPr/>
            </p:nvSpPr>
            <p:spPr>
              <a:xfrm>
                <a:off x="4718160" y="18626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44440" y="1883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4559040" y="2311920"/>
              <a:ext cx="70920" cy="55440"/>
              <a:chOff x="4559040" y="2311920"/>
              <a:chExt cx="70920" cy="55440"/>
            </a:xfrm>
          </p:grpSpPr>
          <p:sp>
            <p:nvSpPr>
              <p:cNvPr id="499" name=""/>
              <p:cNvSpPr/>
              <p:nvPr/>
            </p:nvSpPr>
            <p:spPr>
              <a:xfrm>
                <a:off x="4559040" y="2311920"/>
                <a:ext cx="7092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86400" y="233280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4184280" y="223848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Ar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97840" y="225252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770000" y="1834920"/>
              <a:ext cx="72000" cy="55800"/>
              <a:chOff x="4770000" y="1834920"/>
              <a:chExt cx="72000" cy="55800"/>
            </a:xfrm>
          </p:grpSpPr>
          <p:sp>
            <p:nvSpPr>
              <p:cNvPr id="504" name=""/>
              <p:cNvSpPr/>
              <p:nvPr/>
            </p:nvSpPr>
            <p:spPr>
              <a:xfrm>
                <a:off x="4770000" y="1834920"/>
                <a:ext cx="72000" cy="5580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97360" y="185616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25440" y="1979640"/>
              <a:ext cx="298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Mex 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31640" y="1992600"/>
              <a:ext cx="25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Mex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16480" y="2006640"/>
              <a:ext cx="104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4013280" y="4777920"/>
              <a:ext cx="72000" cy="55080"/>
              <a:chOff x="4013280" y="4777920"/>
              <a:chExt cx="72000" cy="55080"/>
            </a:xfrm>
          </p:grpSpPr>
          <p:sp>
            <p:nvSpPr>
              <p:cNvPr id="510" name=""/>
              <p:cNvSpPr/>
              <p:nvPr/>
            </p:nvSpPr>
            <p:spPr>
              <a:xfrm>
                <a:off x="4013280" y="4777920"/>
                <a:ext cx="7200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40640" y="479844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183200" y="4677120"/>
              <a:ext cx="264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Chi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598000" y="2066760"/>
              <a:ext cx="70920" cy="55440"/>
              <a:chOff x="5598000" y="2066760"/>
              <a:chExt cx="70920" cy="55440"/>
            </a:xfrm>
          </p:grpSpPr>
          <p:sp>
            <p:nvSpPr>
              <p:cNvPr id="514" name=""/>
              <p:cNvSpPr/>
              <p:nvPr/>
            </p:nvSpPr>
            <p:spPr>
              <a:xfrm>
                <a:off x="5598000" y="2066760"/>
                <a:ext cx="7092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23920" y="208764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805640" y="2066760"/>
              <a:ext cx="70920" cy="55440"/>
              <a:chOff x="4805640" y="2066760"/>
              <a:chExt cx="70920" cy="55440"/>
            </a:xfrm>
          </p:grpSpPr>
          <p:sp>
            <p:nvSpPr>
              <p:cNvPr id="517" name=""/>
              <p:cNvSpPr/>
              <p:nvPr/>
            </p:nvSpPr>
            <p:spPr>
              <a:xfrm>
                <a:off x="4805640" y="2066760"/>
                <a:ext cx="7092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32640" y="208764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3802320" y="2053440"/>
              <a:ext cx="70920" cy="55080"/>
              <a:chOff x="3802320" y="2053440"/>
              <a:chExt cx="70920" cy="55080"/>
            </a:xfrm>
          </p:grpSpPr>
          <p:sp>
            <p:nvSpPr>
              <p:cNvPr id="520" name=""/>
              <p:cNvSpPr/>
              <p:nvPr/>
            </p:nvSpPr>
            <p:spPr>
              <a:xfrm>
                <a:off x="3802320" y="205344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829320" y="207396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4664880" y="5418360"/>
              <a:ext cx="70920" cy="55080"/>
              <a:chOff x="4664880" y="5418360"/>
              <a:chExt cx="70920" cy="55080"/>
            </a:xfrm>
          </p:grpSpPr>
          <p:sp>
            <p:nvSpPr>
              <p:cNvPr id="523" name=""/>
              <p:cNvSpPr/>
              <p:nvPr/>
            </p:nvSpPr>
            <p:spPr>
              <a:xfrm>
                <a:off x="4664880" y="5418360"/>
                <a:ext cx="70920" cy="5508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1160" y="5438880"/>
                <a:ext cx="720" cy="36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975400" y="5403960"/>
              <a:ext cx="70920" cy="55440"/>
              <a:chOff x="2975400" y="5403960"/>
              <a:chExt cx="70920" cy="55440"/>
            </a:xfrm>
          </p:grpSpPr>
          <p:sp>
            <p:nvSpPr>
              <p:cNvPr id="526" name=""/>
              <p:cNvSpPr/>
              <p:nvPr/>
            </p:nvSpPr>
            <p:spPr>
              <a:xfrm>
                <a:off x="2975400" y="5403960"/>
                <a:ext cx="7092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002760" y="542484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982520" y="5330520"/>
              <a:ext cx="41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Peru 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3996000" y="5104440"/>
              <a:ext cx="72000" cy="55440"/>
              <a:chOff x="3996000" y="5104440"/>
              <a:chExt cx="72000" cy="55440"/>
            </a:xfrm>
          </p:grpSpPr>
          <p:sp>
            <p:nvSpPr>
              <p:cNvPr id="530" name=""/>
              <p:cNvSpPr/>
              <p:nvPr/>
            </p:nvSpPr>
            <p:spPr>
              <a:xfrm>
                <a:off x="3996000" y="5104440"/>
                <a:ext cx="72000" cy="55440"/>
              </a:xfrm>
              <a:prstGeom prst="rect">
                <a:avLst/>
              </a:prstGeom>
              <a:solidFill>
                <a:srgbClr val="ffffff"/>
              </a:solidFill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023360" y="5125320"/>
                <a:ext cx="720" cy="720"/>
              </a:xfrm>
              <a:prstGeom prst="line">
                <a:avLst/>
              </a:prstGeom>
              <a:ln w="12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4127400" y="5031000"/>
              <a:ext cx="201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Book Antiqua"/>
                </a:rPr>
                <a:t>Ur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mensões Institucionais do Sistema Pol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istema Eleitoral Brasilei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dimensão inter-partidária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per-representativo com a inclusão exagerada de interesses no sistema, levando assim a excessivo número de pontos de veto, alta competitividade eleitoral e baixa identificação/visibilidade dos eleitores de seus represen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dimensão intra-partidária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ntrado no candidato individual que disporia de grande autonomia eleitoral e conseqüentemente frágeis elos e mecanismos de controle dos par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estã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os incentivos inerentes à reforma eleitoral, por que as sucessivas tentativas de reformar o sistema eleitoral no Brasil têm fracassad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 maioria têm se beneficiado com o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status quo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 maioria dos parlamentares têm se candidatado a reeleição (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75% in 1998 and 69% in 2002)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e esta maioria (70%) têm se reel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sistema político e a governabilidade: dois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rgumento da Fragmentaç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es institucionais da ingovernabilidad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sidencialis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partidarismo e partidos déb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gislação eleitoral fragmen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ionalismo e federalismo predató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gresso é o obstáculo fundament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rgumento da centraliz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minância do  executivo garante coes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rrogativas do executi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dimentais: poderes legislativos do presidente e controle da agenda do Cong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stantivas . Controle da máquina e da execução orçamentá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gado autorit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 partidário razoavelmente estruturado no Congres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pt-BR" sz="4400" spc="-1" strike="noStrike" u="sng">
                <a:solidFill>
                  <a:srgbClr val="000000"/>
                </a:solidFill>
                <a:uFillTx/>
                <a:latin typeface="Arial"/>
              </a:rPr>
              <a:t>Poderes Constitucionais do Execu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oderes Legisl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ó-At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stabelece um novo status qu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 de Decreto (Medida Provisó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ito de introduzir nova legisl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ito exclusivo de legislar em áreas específicas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orçamento, matérias administrati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pt-BR" sz="4400" spc="-1" strike="noStrike" u="sng">
                <a:solidFill>
                  <a:srgbClr val="000000"/>
                </a:solidFill>
                <a:uFillTx/>
                <a:latin typeface="Arial"/>
              </a:rPr>
              <a:t>Poderes Constitucionais do Execu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es Reativos (bloqueiam nova legislação e assim protegem 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atus qu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 de Ve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es Procediment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.g. requerer trâmite de urgê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feren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33520" y="1676520"/>
            <a:ext cx="8076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oderes não-legisl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mação do gabin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solução do gabin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oto de Confi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solução da Assemblé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crição na execução do orçamento 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entralização vs. Descentra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001000" cy="4514760"/>
        </p:xfrm>
        <a:graphic>
          <a:graphicData uri="http://schemas.openxmlformats.org/drawingml/2006/table">
            <a:tbl>
              <a:tblPr/>
              <a:tblGrid>
                <a:gridCol w="2274840"/>
                <a:gridCol w="3059280"/>
                <a:gridCol w="2666880"/>
              </a:tblGrid>
              <a:tr h="85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me Polític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Eleit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ocação de cadeir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Partid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96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lamenta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it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nner takes all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-partida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3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partida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96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dencial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itá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ner takes all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-partida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-partidar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Quest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 o papel da legislação eleitoral sobre a escolha social e sobre o funcionamento do Sistema Polític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Quais os principais componentes de um sistema polític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Sistema Eleit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.1. Majoritários ou Pluralista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winner takes a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.2. Mi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.3. Propor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Sistema Partid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1. Bi-partida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.2. Multi-partidarism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304920"/>
            <a:ext cx="7696080" cy="76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gime Polític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1. Parlamentaris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3.2. Presidencia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stema de Gov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.1. Federa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4.2. Sistema unit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mas de Organização Legisl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.1. Bicam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5.2. Unicam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mas de Processo Decisório no Congr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6.1. Centralizado (líderes dos partido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6.2. Descentralizado (comissõ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 Eleitoral</a:t>
            </a:r>
            <a:br>
              <a:rPr sz="36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Lealdade partidária vs. Comportamento individ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ocação de Cadeiras e Magnitude Distr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joritár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eleger quem obteve maior número de voto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irst past the pos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istor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candidato pode se eleger com menos de 50% dos votos; não representação das minorias; foco na base eleito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ant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governos com suporte parlamentar unit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ioria Simp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voto distr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angladesh, Canada, EUA, India, Malawi, Nepal, Pakistan, UK, and Zamb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stema de Dois Tu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nenhum candidato obtém mais de 50% + 1 (França e M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oto Altern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itores podem ordenar as suas preferências. O primeiro candidato que obtiver 50% é eleito (Austrál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oto em Bl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ante do sistema de maioria simples, aplicada a distritos com mais de um representante (M&gt;1). Os eleitores votam em tantos candidatos quanto forem disponíveis as cadeiras. São eleitos os mais votados (Tailândia e Filipina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5:17:14Z</dcterms:created>
  <dc:creator>Carlos Pereira</dc:creator>
  <dc:description/>
  <dc:language>en-US</dc:language>
  <cp:lastModifiedBy>Carlos Pereira</cp:lastModifiedBy>
  <dcterms:modified xsi:type="dcterms:W3CDTF">2004-11-24T15:17:29Z</dcterms:modified>
  <cp:revision>1</cp:revision>
  <dc:subject/>
  <dc:title>Escolha Social, Estratégia e Racionalidade:  Uma Introdução à Teoria dos Jogos na Polít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39168</vt:r8>
  </property>
  <property fmtid="{D5CDD505-2E9C-101B-9397-08002B2CF9AE}" pid="3" name="_AuthorEmail">
    <vt:lpwstr>pereirace@uol.com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Pagina do curso</vt:lpwstr>
  </property>
</Properties>
</file>